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195-8A12-40FE-9D46-5EBD2308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105-AAD0-4F3D-81DD-82816DF5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889-3649-4A56-90DC-83F9C957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E95-6352-4A03-9852-FCDBFAEB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3DC-F355-42F7-8E11-6F7A926F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CEB-7A10-4BF5-8B71-5C9CA71F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66B-C950-450C-8D5E-406D1596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1D2-9ABE-4705-A30D-1FD741B1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7BC-87AF-43A6-8124-9F9E79AE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035-9235-4BFA-8DE8-914C2214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D63-8CE2-43B2-80BE-8E388599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82A-6C00-4A47-9694-2B480787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EAD0-7712-421B-8A81-54D3824322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forizmov.net/anekdoty/tags/kursanty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669456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280" y="3886200"/>
            <a:ext cx="67690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вно закончилась война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вно с войны пришли солдаты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а груди их ордена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ят, как памятные даты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м всем, кто вынес ту войну —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ылу иль на полях сражений, —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ес победную весну, —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лон и память покол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C:\Users\User\Desktop\B7GFO.jpg"/>
          <p:cNvPicPr/>
          <p:nvPr/>
        </p:nvPicPr>
        <p:blipFill>
          <a:blip r:embed="rId1"/>
          <a:stretch/>
        </p:blipFill>
        <p:spPr>
          <a:xfrm>
            <a:off x="1763640" y="549360"/>
            <a:ext cx="6696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620280"/>
            <a:ext cx="57610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ина Михайловна бодрая, энергичная. Женщина живёт строго по режиму, очень любит порядок. До сих пор занимается  домашними делами. Вот  что значит военная дисциплина! Она с ужасом вспоминает  те страшные времена и желает , чтобы мы всегда жили под мирным небо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844640"/>
            <a:ext cx="5770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нимаю что значит Побед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теранов, познавших все бед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шной войны, уцелевших надежд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День Победы придёт неизбеж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ро войну только в книгах чита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ьмы смотрели - и то замирал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ужасе, гневе и боли серд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 не в кино, а в бою до кон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мерть стояли, спасая сво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ну, город свой, дом и сем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, что вам дорого, любо и свят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было в сердце любого солда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одарить мы могли б неустан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е затянутся прошлого раны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дут не хвалебных речей ветера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чтобы память была постоянн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ни и ценим. Для нас вы - как звезд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р на Земле вашим подвигом созда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с поздравлять с Днём Победы готов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аздники, будни, все снова и снов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22 Июня 1941 4:00 часа ночи Объявление о Начале Великой Отечественной Войны. Помним, Любим и Скорбим! &quot; ok.ya1.ru"/>
          <p:cNvPicPr/>
          <p:nvPr/>
        </p:nvPicPr>
        <p:blipFill>
          <a:blip r:embed="rId1"/>
          <a:stretch/>
        </p:blipFill>
        <p:spPr>
          <a:xfrm>
            <a:off x="5508720" y="549360"/>
            <a:ext cx="2995560" cy="215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 Днем Победы. - Archnest.com"/>
          <p:cNvPicPr/>
          <p:nvPr/>
        </p:nvPicPr>
        <p:blipFill>
          <a:blip r:embed="rId2"/>
          <a:stretch/>
        </p:blipFill>
        <p:spPr>
          <a:xfrm>
            <a:off x="5522760" y="2997360"/>
            <a:ext cx="3152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Презентация на тему 1941-1945 гг. - презентация по истории скачать"/>
          <p:cNvPicPr/>
          <p:nvPr/>
        </p:nvPicPr>
        <p:blipFill>
          <a:blip r:embed="rId1"/>
          <a:stretch/>
        </p:blipFill>
        <p:spPr>
          <a:xfrm>
            <a:off x="1547640" y="549360"/>
            <a:ext cx="70567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05152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прошёл всю войн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прополз всю войн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границы к Москве, до Берли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держись, ветера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ожди умират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мотри на внучат и на сы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ни всех, ветера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х, с кем ты воев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то в окопах зимою и летом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гибал, побежд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л, смеялся, стреля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рузей хоронил на рассвет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опять полз на брюх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пел, как уме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 землянку и синий платоче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л про дружбу, про т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любимая ждё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 Победу, которой так хочеш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, держись, ветера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не смей умират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в груди затихают куранты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й окончен,совсе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последний салю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дают молодые 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курсант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Великая Отечественная Война 1941-1945. (57 фото) Картинки со смыслом"/>
          <p:cNvPicPr/>
          <p:nvPr/>
        </p:nvPicPr>
        <p:blipFill>
          <a:blip r:embed="rId2"/>
          <a:stretch/>
        </p:blipFill>
        <p:spPr>
          <a:xfrm>
            <a:off x="5003640" y="404640"/>
            <a:ext cx="3384720" cy="225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ФОТО Великая Отечественная война / Фото VOV_1941_1945_1000 (19).jpg"/>
          <p:cNvPicPr/>
          <p:nvPr/>
        </p:nvPicPr>
        <p:blipFill>
          <a:blip r:embed="rId3"/>
          <a:stretch/>
        </p:blipFill>
        <p:spPr>
          <a:xfrm>
            <a:off x="5021280" y="2924280"/>
            <a:ext cx="3438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ребрякова Фаина Михайлов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C:\Users\User\Desktop\Рисунок.jpg"/>
          <p:cNvPicPr/>
          <p:nvPr/>
        </p:nvPicPr>
        <p:blipFill>
          <a:blip r:embed="rId1"/>
          <a:stretch/>
        </p:blipFill>
        <p:spPr>
          <a:xfrm>
            <a:off x="2987640" y="1700280"/>
            <a:ext cx="3000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1557000"/>
            <a:ext cx="6213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ребрякова Фаина Михайловн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дилась 27 мая 1924 год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в городе  Мамадыш Татарской АСС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43000"/>
            <a:ext cx="662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ю свою жизнь прожила в городе Мамадыш 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лась в школе №1,  закончила 10 классов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43 году ушла на войну. До войны работала на тракторе и учётчиком   в кормовом пункте , где держали коров. Работа находилась на подсобном хозяйстве за рекой Вя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Государственные архивы РФ, хранящие фотодокументы о Великой Отечественной войне 1941-1945 гг. Сайт &quot;Победа. 1941-1945&quot;."/>
          <p:cNvPicPr/>
          <p:nvPr/>
        </p:nvPicPr>
        <p:blipFill>
          <a:blip r:embed="rId1"/>
          <a:stretch/>
        </p:blipFill>
        <p:spPr>
          <a:xfrm>
            <a:off x="2700360" y="2708280"/>
            <a:ext cx="46465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1640" y="1125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я работы в 1943 году пришла повестка из  военкомата. На тот момент девушке было 19 лет. Позже переправилась на пароме через Вятку домой, там жила с неродной матерью.  Отца расстреляли как  врага народа, в последствии репрессировали. На следующей день она пошла с повесткой в военкомат. С ней было еще 8 девчат с разных деревень, их  отправили в Казань, затем  в Чистополь,  где они  прошли комисс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721224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ина Михайловна попала в  1-й дивизион. Так как она уже занималась военной подготовкой в Мамадыше, её отправили в Штат полка. Поручили возить секретные документы в Штат, проработала 1 месяц. Позже её и еще  1 девушку отправили учиться на радистов, проучились 1 месяц,  и отправили их в 5 дивизион. После, была направлена на фронт на Западную Украину, затем в Польшу и Берли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4608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84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ну встретили в Германии. После войны познакомилась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удущем мужем - Александром. Он тоже был участником вой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шёл всю войну до победного конца , был награждён «Орденом красной звезды». Родили и воспитали четверых детей – Надежду, Виктора, Нину и Юрия.  Долгое время были счастливы, но одна за одной последовали  потери.  Сначала умер муж,  потом старший сын, затем после тяжелой болезни умирает  дочь. На сегодняшний день Фаина Михайловна  живёт с младшим сыном, а  дочь Нина проживает в Москве, но с внуками часто приезжает в Мамадыш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2987640" y="3357720"/>
            <a:ext cx="37450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1268280"/>
            <a:ext cx="62643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м году Фаине Михайловне исполнилось  90 лет.  Дочь хотела забрать её в Москву, но Фаина Михайловна не хочет уезжать из родного кра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Оксана</cp:lastModifiedBy>
  <dcterms:modified xsi:type="dcterms:W3CDTF">2015-01-30T06:37:38Z</dcterms:modified>
  <cp:revision>12</cp:revision>
  <dc:subject/>
  <dc:title>Слайд 1</dc:title>
</cp:coreProperties>
</file>